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DB4-610C-46C8-B0A5-2338CCE2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8534-0708-4B94-ADE7-42E0E9D5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B4C5-E762-4B4C-AA75-03274CA8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564-907C-4055-84DD-1DDD84E3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545-D854-49E9-9868-FEDE2CB1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C1B-5F67-4E46-ACED-27929225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F134-09BB-4E9D-83FB-2E79EBFB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3011-D1F4-4D15-8B1B-125833DD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282-0CF3-4F9A-A2E8-FFE2BE12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E34-FF68-46BF-A1FD-59544730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130-A0E6-4A86-8C8C-22E0D831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476-5D41-4DAD-9840-AA5FC2C1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2ACF-7A3E-4DDC-912C-BB36F67F4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0" y="72360"/>
            <a:ext cx="918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4.7 Exponents and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1: Multiplying Powers with the Sam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2: Finding a Power of a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4.8 Exponents and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1: Dividing Expressions Containing Ex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2: Simplifying Expressions with Integer Ex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5.9 Powers of Products and Quo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1: Finding Powers of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2: Finding Powers of Quo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79800" y="411840"/>
            <a:ext cx="43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sing a Product to a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2920" y="2926440"/>
            <a:ext cx="44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sing a Quotient to a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238880" cy="101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76964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001000" cy="798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8610480" cy="2033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66680" y="4191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6p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114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y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5x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667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43000" y="1447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6y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447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16y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1447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-125a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07 #2-26 every other ev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08 # 5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13 #2-26 every other ev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14 #52 – 56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57200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Quiz in two days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7160" y="335520"/>
            <a:ext cx="55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ying Powers of the Sam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2400" y="2697840"/>
            <a:ext cx="41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 a Power of a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715000" cy="971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1600200" cy="59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2971800" cy="74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8120" y="21337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= 3,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4343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12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076960" cy="939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7696080" cy="554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1523880" cy="621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733920" y="4343400"/>
            <a:ext cx="1752480" cy="730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76520" y="1523880"/>
            <a:ext cx="5638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 * -5 = 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* a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= a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-15 a</a:t>
            </a:r>
            <a:r>
              <a:rPr b="0" lang="en-US" sz="1800" spc="-1" strike="noStrike" baseline="30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5181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= 5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5334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g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229600" cy="2361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76520" y="2590920"/>
            <a:ext cx="6248160" cy="393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66680" y="1447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=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1447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1600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5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8 a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5c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2 x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5257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=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53341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73320" y="34992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ing Powers with the sam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0920" y="254520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ro as an ex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162920" cy="1024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114300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1143000" cy="873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3048120"/>
            <a:ext cx="8458200" cy="941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762120" y="4267080"/>
            <a:ext cx="1447560" cy="981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3581280" y="4267080"/>
            <a:ext cx="1295640" cy="1049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28800" y="1676520"/>
            <a:ext cx="15238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12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=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167652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W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18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w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4419720"/>
            <a:ext cx="1295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-12)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73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-12)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0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238880" cy="949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70866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153280" cy="2423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8229600" cy="3033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43000" y="1523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1600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1600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m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365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4648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4648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-4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9:47:20Z</dcterms:created>
  <dc:creator>Susannah Graham</dc:creator>
  <dc:description/>
  <dc:language>en-US</dc:language>
  <cp:lastModifiedBy>grahams</cp:lastModifiedBy>
  <dcterms:modified xsi:type="dcterms:W3CDTF">2011-12-14T14:33:44Z</dcterms:modified>
  <cp:revision>5</cp:revision>
  <dc:subject/>
  <dc:title>Homework to do in groups  p.184   #2 – 34 every other even  and p.185 #56 – 66 even </dc:title>
</cp:coreProperties>
</file>